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9E4-49E6-4651-B6A0-D93FBBE0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993-1113-44B4-B097-B108FC6C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296-7C60-46E6-A748-D62C6420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F24-2214-46A7-9E17-DA1A6B2C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0CE-42DF-4370-818E-405D9729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895-3104-439E-8EC7-D06F50AA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CA2-17CB-4EF2-B0FC-D3B359A0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C4C-10CB-4FEF-A1A3-9A416CA1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3A0-A0D7-4C28-9C07-3C5F9579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172-DCBC-4A2A-834C-34C3926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AFC-4318-4619-8116-8A509883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423-FECE-42DA-AF9F-6996B9F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FAA-FC28-480B-BA0B-BC62CCFC4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o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7:20:18Z</dcterms:created>
  <dc:creator>Employee</dc:creator>
  <dc:description/>
  <dc:language>en-US</dc:language>
  <cp:lastModifiedBy>Employee</cp:lastModifiedBy>
  <dcterms:modified xsi:type="dcterms:W3CDTF">2005-05-06T17:20:30Z</dcterms:modified>
  <cp:revision>1</cp:revision>
  <dc:subject/>
  <dc:title>Wrong</dc:title>
</cp:coreProperties>
</file>