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7696-8162-47B8-BB0D-C0D4F8CCC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1008-D2BC-4580-83AD-24ACE0363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6D99-3120-4FD8-950E-07C391EA6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37FB-6684-43B1-A82F-B198649A9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209B-DBD6-4526-925E-1ED7D1E6D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6C69-3387-403D-AFAE-8AB336127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E9FC-3FAE-40E3-AD59-F483DFCB8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B252-042B-4220-A3DA-3D2F90253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C614-129A-49F8-B352-9A8AAFBD7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8122-1605-4967-85E7-F22E0674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377D-5A23-4921-9EF4-869968BC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43E7-1988-41E3-9E3D-0C285D3C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57D12-69DC-48D9-A2BD-CFF22FC4CB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wwm-wonmillion%5B1%5D.wav" TargetMode="External"/><Relationship Id="rId2" Type="http://schemas.microsoft.com/office/2007/relationships/media" Target="file:///tmp/home/.config/libreoffice/4/user/gallery/wwm-wonmillion%5B1%5D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 you won a million doll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8:50:46Z</dcterms:created>
  <dc:creator>Employee</dc:creator>
  <dc:description/>
  <dc:language>en-US</dc:language>
  <cp:lastModifiedBy>Employee</cp:lastModifiedBy>
  <dcterms:modified xsi:type="dcterms:W3CDTF">2005-05-13T18:50:57Z</dcterms:modified>
  <cp:revision>1</cp:revision>
  <dc:subject/>
  <dc:title>Right you won a million dollars</dc:title>
</cp:coreProperties>
</file>