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8F4-6A38-47F1-B96B-A73FD571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FF4-4060-48F0-95A2-26BD25C7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272-A0D0-49C0-87E8-83DF1085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5491-0089-4CB6-8E2F-DD50C98A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99F-E108-49D2-A277-AA1AA9C9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DB8B-6306-4037-8C1F-D82E7F25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8379-1CA8-4377-B460-A7121128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18FE-85D3-4134-93F5-6AC38DD6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ADC-E7BD-401F-988E-1D52CA4F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824C-010B-4723-A557-DC348D3B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496-B43D-4811-9473-F94050F1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462-05F3-40E1-B14D-8AC2C8C3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AD43-50E1-472D-ABAB-B0FB81704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wm-finalanswer%5B1%5D.wav" TargetMode="External"/><Relationship Id="rId2" Type="http://schemas.microsoft.com/office/2007/relationships/media" Target="file:///tmp/home/.config/libreoffice/4/user/gallery/wwm-finalanswer%5B1%5D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8:39:52Z</dcterms:created>
  <dc:creator>Employee</dc:creator>
  <dc:description/>
  <dc:language>en-US</dc:language>
  <cp:lastModifiedBy>Employee</cp:lastModifiedBy>
  <dcterms:modified xsi:type="dcterms:W3CDTF">2005-05-13T18:41:51Z</dcterms:modified>
  <cp:revision>2</cp:revision>
  <dc:subject/>
  <dc:title>50 /50</dc:title>
</cp:coreProperties>
</file>