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67AF-C9B7-455B-A83B-5E118BC7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DF2A-F9C6-4BBC-8DDC-AC91F5F7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DFFB-7223-4D82-9220-64E71AC3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C6F9-9A5F-4DD2-8461-658F69EE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AD82-EED2-4AE8-9737-191E5DC2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CAF8-84A4-4DB4-A34D-7536D521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5D8E-5BD4-46C3-BB66-6941FB53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17B7-7205-4412-B6E4-43745B2E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800D-1343-415E-BCF0-2C7B77EE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C6E5-75F5-4541-8162-EF028C40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B59F-520D-4973-9ECD-3073962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21F4-D99B-49C3-8CDD-A682CE96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B71F-036D-4008-A53C-038B8FB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62C9-B2EE-426E-A8E0-37F4B9D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3A2A-4A70-43DE-AABB-2253135F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0C15-C7BE-4DDA-BD9B-9F900E71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4423-76FD-4645-955B-CAF5DD46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00EE-F13F-4173-BF92-76E5E01F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6622-E5B7-47F4-89F8-134267A7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BDB3-9020-41DE-B52C-7FD8077E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897D-37D5-4801-B0CB-01D50E27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C90F-64EF-4134-A44A-DC9B439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0E56-AA73-4B9C-A928-D2C444D9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50B8-2031-4F9B-89D0-CF144BE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748E-C732-486A-83C9-A92FF384D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B9EC-DE28-4721-A308-6DDB150D07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nswer/Right1.ppt" TargetMode="External"/><Relationship Id="rId2" Type="http://schemas.openxmlformats.org/officeDocument/2006/relationships/hyperlink" Target="file:///Answer/Wrong2.ppt" TargetMode="External"/><Relationship Id="rId3" Type="http://schemas.openxmlformats.org/officeDocument/2006/relationships/hyperlink" Target="file:///Answer/Wrong2.ppt" TargetMode="External"/><Relationship Id="rId4" Type="http://schemas.openxmlformats.org/officeDocument/2006/relationships/hyperlink" Target="file:///Answer/Wrong2.ppt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nswer/Right1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nswer/Right1.ppt" TargetMode="External"/><Relationship Id="rId2" Type="http://schemas.openxmlformats.org/officeDocument/2006/relationships/hyperlink" Target="file:///Answer/Wrong2.ppt" TargetMode="External"/><Relationship Id="rId3" Type="http://schemas.openxmlformats.org/officeDocument/2006/relationships/hyperlink" Target="file:///Answer/Wrong2.ppt" TargetMode="External"/><Relationship Id="rId4" Type="http://schemas.openxmlformats.org/officeDocument/2006/relationships/hyperlink" Target="file:///Answer/Wrong2.ppt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nswer/Wrong2.ppt" TargetMode="External"/><Relationship Id="rId2" Type="http://schemas.openxmlformats.org/officeDocument/2006/relationships/hyperlink" Target="file:///Answer/Wrong2.ppt" TargetMode="External"/><Relationship Id="rId3" Type="http://schemas.openxmlformats.org/officeDocument/2006/relationships/hyperlink" Target="file:///Answer/Right1.ppt" TargetMode="External"/><Relationship Id="rId4" Type="http://schemas.openxmlformats.org/officeDocument/2006/relationships/hyperlink" Target="file:///Answer/Wrong2.ppt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nswer/Wrong2.ppt" TargetMode="External"/><Relationship Id="rId2" Type="http://schemas.openxmlformats.org/officeDocument/2006/relationships/hyperlink" Target="file:///Answer/Wrong2.ppt" TargetMode="External"/><Relationship Id="rId3" Type="http://schemas.openxmlformats.org/officeDocument/2006/relationships/hyperlink" Target="file:///Answer/Wrong2.ppt" TargetMode="External"/><Relationship Id="rId4" Type="http://schemas.openxmlformats.org/officeDocument/2006/relationships/hyperlink" Target="file:///Answer/Right1.ppt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nswer/Right1.ppt" TargetMode="External"/><Relationship Id="rId2" Type="http://schemas.openxmlformats.org/officeDocument/2006/relationships/hyperlink" Target="file:///Answer/Wrong2.ppt" TargetMode="External"/><Relationship Id="rId3" Type="http://schemas.openxmlformats.org/officeDocument/2006/relationships/hyperlink" Target="file:///Answer/Wrong2.ppt" TargetMode="External"/><Relationship Id="rId4" Type="http://schemas.openxmlformats.org/officeDocument/2006/relationships/hyperlink" Target="file:///Answer/Wrong2.ppt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nswer/Wrong2.ppt" TargetMode="External"/><Relationship Id="rId2" Type="http://schemas.openxmlformats.org/officeDocument/2006/relationships/hyperlink" Target="file:///Answer/Right1.ppt" TargetMode="External"/><Relationship Id="rId3" Type="http://schemas.openxmlformats.org/officeDocument/2006/relationships/hyperlink" Target="file:///Answer/Wrong2.ppt" TargetMode="External"/><Relationship Id="rId4" Type="http://schemas.openxmlformats.org/officeDocument/2006/relationships/hyperlink" Target="file:///Answer/Wrong2.ppt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nswer/Right1.ppt" TargetMode="External"/><Relationship Id="rId2" Type="http://schemas.openxmlformats.org/officeDocument/2006/relationships/hyperlink" Target="file:///Answer/Wrong2.ppt" TargetMode="External"/><Relationship Id="rId3" Type="http://schemas.openxmlformats.org/officeDocument/2006/relationships/hyperlink" Target="file:///Answer/Wrong2.ppt" TargetMode="External"/><Relationship Id="rId4" Type="http://schemas.openxmlformats.org/officeDocument/2006/relationships/hyperlink" Target="file:///Answer/Wrong2.ppt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nswer/Right1.ppt" TargetMode="External"/><Relationship Id="rId2" Type="http://schemas.openxmlformats.org/officeDocument/2006/relationships/hyperlink" Target="file:///Answer/Wrong2.ppt" TargetMode="External"/><Relationship Id="rId3" Type="http://schemas.openxmlformats.org/officeDocument/2006/relationships/hyperlink" Target="file:///Answer/Wrong2.ppt" TargetMode="External"/><Relationship Id="rId4" Type="http://schemas.openxmlformats.org/officeDocument/2006/relationships/hyperlink" Target="file:///Answer/Wrong2.ppt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Answer/Right1.ppt" TargetMode="External"/><Relationship Id="rId2" Type="http://schemas.openxmlformats.org/officeDocument/2006/relationships/hyperlink" Target="file:///Answer/Wrong2.ppt" TargetMode="External"/><Relationship Id="rId3" Type="http://schemas.openxmlformats.org/officeDocument/2006/relationships/hyperlink" Target="file:///Answer/Wrong2.ppt" TargetMode="External"/><Relationship Id="rId4" Type="http://schemas.openxmlformats.org/officeDocument/2006/relationships/hyperlink" Target="file:///Answer/Wrong2.ppt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Who wants to be a Millionaire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d by Jaspre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Garamond"/>
              </a:rPr>
              <a:t>J</a:t>
            </a:r>
            <a:r>
              <a:rPr b="1" lang="en-US" sz="40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M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am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702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100,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the computer term P2P me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Peer 2 Pe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Picture 2 pi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Processor 2 process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Play to pl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500,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www mea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orld wide w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de world tr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ar white wh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Willie we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946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1,000,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pecies  of tigers is almost extin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ng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beri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ghan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atr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rst Question $1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made the harry potter seri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J.K Rowl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Barbra Streis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Nick Car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None of the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94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200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is the Taj Mah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Afr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Can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Austral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94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5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was the first airplane invented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19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 17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19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1903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94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1,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amous One World airline American Airlines most famous president wa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C.R. Smi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American B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Robert Di Ne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Yo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94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2,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isease is caused by high sugar leve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Can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iabe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Leprosi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None of the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4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10,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light called when it doesn’t pass through an obje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Opa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Transluc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Transpar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Clog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25,000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Famous Art Mueseum is in the book The Da Vinci Cod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Louv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The French art Muse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The British Muse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Le Cordon Ble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63868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94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$50,000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name of the system that organizes the libra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The Dewey Decimal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 The sanitary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The book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The copy mac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9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21:55:04Z</dcterms:created>
  <dc:creator>Harvey Singh</dc:creator>
  <dc:description/>
  <dc:language>en-US</dc:language>
  <cp:lastModifiedBy>Harvey Singh</cp:lastModifiedBy>
  <dcterms:modified xsi:type="dcterms:W3CDTF">2005-09-10T01:02:07Z</dcterms:modified>
  <cp:revision>18</cp:revision>
  <dc:subject/>
  <dc:title>Slide 1</dc:title>
</cp:coreProperties>
</file>